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7416-01B0-495B-B95D-C8E884D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94F-0384-4B69-A9E2-937BF856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D2-DCAE-4C76-8690-C16B3EEA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768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66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768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135-AF1E-4EDC-8ED1-5923C141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F3D8-2AC0-44CE-9BDE-E5620E47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505B-30FE-4A39-8573-3E7AD9C7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1FE5-5A6F-4F0E-BB00-E0653EB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AAB9-EEAB-402C-9CAA-34607E5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FD7F-0E3E-4348-B763-50E3875C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F306-2679-42F5-AA03-4518DE56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911-DE44-45E5-BF26-2712375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5EE-88B3-4760-8772-4F901486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542-BE11-4938-A35E-72B19C67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946-D41E-4FAE-8AC6-DB73014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7EC1-AB93-4321-BF18-232DBF30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587C-97C9-4763-88BA-1138B32D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66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6880" y="17524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684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66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6880" y="418068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88A5-820C-430A-A7F3-2205F9E7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7DA-DC8C-4247-9903-D762F6BD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3FA-1027-49F7-A00C-810713D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348-5F95-428B-8D74-86C5578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B0C-A24B-4BAF-A8B1-2EA38CCF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DCF-24EE-40C9-8811-8BC3AEE7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90880" y="41806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AF1-C60C-4B23-BA5C-842FF5B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75248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18068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92A-0301-40AA-A491-F780D570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02384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35000" y="124308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2318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5032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7732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104472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131616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15858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18572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21286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2398680" y="118440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267192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AutoShape 14"/>
          <p:cNvSpPr/>
          <p:nvPr/>
        </p:nvSpPr>
        <p:spPr>
          <a:xfrm>
            <a:off x="29415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AutoShape 15"/>
          <p:cNvSpPr/>
          <p:nvPr/>
        </p:nvSpPr>
        <p:spPr>
          <a:xfrm>
            <a:off x="32130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6"/>
          <p:cNvSpPr/>
          <p:nvPr/>
        </p:nvSpPr>
        <p:spPr>
          <a:xfrm>
            <a:off x="348444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37544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spcBef>
                <a:spcPts val="850"/>
              </a:spcBef>
              <a:buClr>
                <a:srgbClr val="8381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6293-BC04-4EED-BE8F-1CAE75C4D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0" y="153504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AutoShape 25"/>
          <p:cNvSpPr/>
          <p:nvPr/>
        </p:nvSpPr>
        <p:spPr>
          <a:xfrm>
            <a:off x="4027320" y="118440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AutoShape 26"/>
          <p:cNvSpPr/>
          <p:nvPr/>
        </p:nvSpPr>
        <p:spPr>
          <a:xfrm>
            <a:off x="4299120" y="118440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AutoShape 27"/>
          <p:cNvSpPr/>
          <p:nvPr/>
        </p:nvSpPr>
        <p:spPr>
          <a:xfrm>
            <a:off x="45687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AutoShape 28"/>
          <p:cNvSpPr/>
          <p:nvPr/>
        </p:nvSpPr>
        <p:spPr>
          <a:xfrm>
            <a:off x="48402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AutoShape 29"/>
          <p:cNvSpPr/>
          <p:nvPr/>
        </p:nvSpPr>
        <p:spPr>
          <a:xfrm>
            <a:off x="511164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AutoShape 30"/>
          <p:cNvSpPr/>
          <p:nvPr/>
        </p:nvSpPr>
        <p:spPr>
          <a:xfrm>
            <a:off x="53816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AutoShape 31"/>
          <p:cNvSpPr/>
          <p:nvPr/>
        </p:nvSpPr>
        <p:spPr>
          <a:xfrm>
            <a:off x="56530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AutoShape 32"/>
          <p:cNvSpPr/>
          <p:nvPr/>
        </p:nvSpPr>
        <p:spPr>
          <a:xfrm>
            <a:off x="592452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AutoShape 33"/>
          <p:cNvSpPr/>
          <p:nvPr/>
        </p:nvSpPr>
        <p:spPr>
          <a:xfrm>
            <a:off x="6194520" y="118440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AutoShape 34"/>
          <p:cNvSpPr/>
          <p:nvPr/>
        </p:nvSpPr>
        <p:spPr>
          <a:xfrm>
            <a:off x="646740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AutoShape 35"/>
          <p:cNvSpPr/>
          <p:nvPr/>
        </p:nvSpPr>
        <p:spPr>
          <a:xfrm>
            <a:off x="673740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AutoShape 36"/>
          <p:cNvSpPr/>
          <p:nvPr/>
        </p:nvSpPr>
        <p:spPr>
          <a:xfrm>
            <a:off x="700884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AutoShape 37"/>
          <p:cNvSpPr/>
          <p:nvPr/>
        </p:nvSpPr>
        <p:spPr>
          <a:xfrm>
            <a:off x="728028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AutoShape 38"/>
          <p:cNvSpPr/>
          <p:nvPr/>
        </p:nvSpPr>
        <p:spPr>
          <a:xfrm>
            <a:off x="75502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AutoShape 39"/>
          <p:cNvSpPr/>
          <p:nvPr/>
        </p:nvSpPr>
        <p:spPr>
          <a:xfrm>
            <a:off x="781848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AutoShape 40"/>
          <p:cNvSpPr/>
          <p:nvPr/>
        </p:nvSpPr>
        <p:spPr>
          <a:xfrm>
            <a:off x="808992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41"/>
          <p:cNvSpPr/>
          <p:nvPr/>
        </p:nvSpPr>
        <p:spPr>
          <a:xfrm>
            <a:off x="8361360" y="118440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42"/>
          <p:cNvSpPr/>
          <p:nvPr/>
        </p:nvSpPr>
        <p:spPr>
          <a:xfrm>
            <a:off x="8631360" y="118440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8" name="Rectangle 3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5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6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7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8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10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11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12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13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14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15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16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17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18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19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Rectangle 20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spcBef>
                <a:spcPts val="850"/>
              </a:spcBef>
              <a:buClr>
                <a:srgbClr val="8381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017-4B15-4653-96EF-CDF76B85561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71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. Gases in the Atmospher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p. 248 - 271)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599760"/>
            <a:ext cx="9144000" cy="1152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Unit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j0297707"/>
          <p:cNvPicPr/>
          <p:nvPr/>
        </p:nvPicPr>
        <p:blipFill>
          <a:blip r:embed="rId1"/>
          <a:stretch/>
        </p:blipFill>
        <p:spPr>
          <a:xfrm>
            <a:off x="6858000" y="4343400"/>
            <a:ext cx="147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hich shoes create the most pressu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276720" y="2590920"/>
            <a:ext cx="1618920" cy="1345680"/>
            <a:chOff x="3276720" y="2590920"/>
            <a:chExt cx="1618920" cy="1345680"/>
          </a:xfrm>
        </p:grpSpPr>
        <p:graphicFrame>
          <p:nvGraphicFramePr>
            <p:cNvPr id="161" name="Object 5"/>
            <p:cNvGraphicFramePr/>
            <p:nvPr/>
          </p:nvGraphicFramePr>
          <p:xfrm>
            <a:off x="3410280" y="2590920"/>
            <a:ext cx="1485360" cy="110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0280" y="2590920"/>
                      <a:ext cx="1485360" cy="110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6"/>
            <p:cNvGraphicFramePr/>
            <p:nvPr/>
          </p:nvGraphicFramePr>
          <p:xfrm>
            <a:off x="3276720" y="2829240"/>
            <a:ext cx="1485360" cy="110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2829240"/>
                      <a:ext cx="1485360" cy="110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5" name="Object 7"/>
          <p:cNvGraphicFramePr/>
          <p:nvPr/>
        </p:nvGraphicFramePr>
        <p:xfrm>
          <a:off x="5562720" y="2743200"/>
          <a:ext cx="2887560" cy="15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743200"/>
                    <a:ext cx="288756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9"/>
          <p:cNvGraphicFramePr/>
          <p:nvPr/>
        </p:nvGraphicFramePr>
        <p:xfrm>
          <a:off x="1143000" y="2590920"/>
          <a:ext cx="145080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2590920"/>
                    <a:ext cx="14508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10"/>
          <p:cNvGrpSpPr/>
          <p:nvPr/>
        </p:nvGrpSpPr>
        <p:grpSpPr>
          <a:xfrm>
            <a:off x="1600200" y="4343400"/>
            <a:ext cx="5653080" cy="1978200"/>
            <a:chOff x="1600200" y="4343400"/>
            <a:chExt cx="5653080" cy="1978200"/>
          </a:xfrm>
        </p:grpSpPr>
        <p:sp>
          <p:nvSpPr>
            <p:cNvPr id="170" name="AutoShape 11"/>
            <p:cNvSpPr/>
            <p:nvPr/>
          </p:nvSpPr>
          <p:spPr>
            <a:xfrm>
              <a:off x="1600200" y="4343400"/>
              <a:ext cx="5653080" cy="1978200"/>
            </a:xfrm>
            <a:prstGeom prst="roundRect">
              <a:avLst>
                <a:gd name="adj" fmla="val 16667"/>
              </a:avLst>
            </a:prstGeom>
            <a:solidFill>
              <a:srgbClr val="8381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Object 12"/>
                <p:cNvSpPr txBox="1"/>
                <p:nvPr/>
              </p:nvSpPr>
              <p:spPr>
                <a:xfrm>
                  <a:off x="1717920" y="4375440"/>
                  <a:ext cx="5344920" cy="18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essur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forc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its of Pressur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Pa (kP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mm H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tor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ps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at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nce there are so many different units for pressure and other measurements, scientists have agreed to use certain units when communicating results with each other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ystem is called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nternational System of Uni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SI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se unit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Fundamental physical quantit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Ex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. Mass, length, tim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rived unit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Found by mathematically combining two or more base un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ffff"/>
                </a:solidFill>
                <a:uFillTx/>
                <a:latin typeface="Arial"/>
              </a:rPr>
              <a:t>Ex</a:t>
            </a:r>
            <a:r>
              <a:rPr b="0" lang="en-US" sz="3000" spc="-1" strike="noStrike">
                <a:solidFill>
                  <a:srgbClr val="66ffff"/>
                </a:solidFill>
                <a:latin typeface="Arial"/>
              </a:rPr>
              <a:t>. Density, pressure, volu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arometer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: device to measure atmospheric press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At sea level: colum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 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s 760 mm H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P of mercury equal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P of atmosphe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5482800" y="2306520"/>
            <a:ext cx="2990880" cy="4553280"/>
            <a:chOff x="5482800" y="2306520"/>
            <a:chExt cx="2990880" cy="4553280"/>
          </a:xfrm>
        </p:grpSpPr>
        <p:graphicFrame>
          <p:nvGraphicFramePr>
            <p:cNvPr id="181" name="Object 5"/>
            <p:cNvGraphicFramePr/>
            <p:nvPr/>
          </p:nvGraphicFramePr>
          <p:xfrm>
            <a:off x="5614200" y="2306520"/>
            <a:ext cx="2859480" cy="417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14200" y="2306520"/>
                      <a:ext cx="2859480" cy="4170240"/>
                    </a:xfrm>
                    <a:prstGeom prst="rect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3" name="Text Box 6"/>
            <p:cNvSpPr/>
            <p:nvPr/>
          </p:nvSpPr>
          <p:spPr>
            <a:xfrm>
              <a:off x="5482800" y="6460920"/>
              <a:ext cx="23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1b3"/>
                  </a:solidFill>
                  <a:latin typeface="Arial"/>
                </a:rPr>
                <a:t>Mercury Barome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energy possessed by any moving object, sometimes called the “energy of motion” 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kinetic ener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energy depends on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Mass of moving ob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Velocity of moving objec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consist of tiny particles whose size is insignificant compared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to the great distances between th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are in constant, random motion.  They often collide with each other and the walls of their container and surrounding objects.  Ga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pressur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s the result of molecular collisions with container walls and other object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4 Atoms/Molecules in Mo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inetic Molecular Theory (KMT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ecular collisions ar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elastic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  The amount o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energ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s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erature by definition is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he amount of K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  At any T, molecules in a sample have a range of kinetic energies.  However, th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average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 of the molecules is consta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5 Boyle’s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rawings of syringe filled with ai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ubling the volum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alv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ecreasing </a:t>
            </a:r>
            <a:r>
              <a:rPr b="0" i="1" lang="en-US" sz="3400" spc="-1" strike="noStrike">
                <a:solidFill>
                  <a:srgbClr val="ccecff"/>
                </a:solidFill>
                <a:latin typeface="Arial"/>
              </a:rPr>
              <a:t>volum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in hal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double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the pressur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1 Properties of Gas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mospheric gases are generally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olorless, odorl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asteles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have mas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take up spac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j0216588"/>
          <p:cNvPicPr/>
          <p:nvPr/>
        </p:nvPicPr>
        <p:blipFill>
          <a:blip r:embed="rId1"/>
          <a:stretch/>
        </p:blipFill>
        <p:spPr>
          <a:xfrm>
            <a:off x="6553080" y="3505320"/>
            <a:ext cx="1609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5 Boyle’s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saying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Boyle is a VI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equation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= P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75400" cy="4038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555840" y="3049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.7 Charles’s La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650160" y="1752480"/>
            <a:ext cx="84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ll the lines are extended to the x-axis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lin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et 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273°C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7 Charles’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rd Kelvin used this information to derive a new temperature scale: the Kelvin scale.  Unlike other temperature scales, the Kelvin temperature scale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has no negative valu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7 Charles’ Law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799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’ law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’ Law tells us that there is a direct relationship between T and V so if the Kelvin temperatur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dou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he volum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dou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’ law say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Charles watches Direct T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oyle’s law states that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inverse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rela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arles’s law states that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V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direct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relate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issing combination of the variable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mperature-Pressure relatio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f T increases, what happens to the gas molecule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  <a:ea typeface="Arial"/>
              </a:rPr>
              <a:t>Move faster, more collisions, more 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-22860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  <a:ea typeface="Arial"/>
              </a:rPr>
              <a:t>Direct relatio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51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ich formula should this relationship resembl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cc"/>
                </a:solidFill>
                <a:latin typeface="Arial"/>
              </a:rPr>
              <a:t>Charles’ Law – (both direc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8 Temperature-Pressure Relationshi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emperature-Pressure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y-Lussac’s Law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 = T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P</a:t>
            </a:r>
            <a:r>
              <a:rPr b="0" lang="en-US" sz="3400" spc="-1" strike="noStrike" baseline="-25000">
                <a:solidFill>
                  <a:srgbClr val="99ff66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or      </a:t>
            </a: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P</a:t>
            </a:r>
            <a:r>
              <a:rPr b="0" lang="en-US" sz="3400" spc="-1" strike="noStrike" u="sng" baseline="-25000">
                <a:solidFill>
                  <a:srgbClr val="ff66cc"/>
                </a:solidFill>
                <a:uFillTx/>
                <a:latin typeface="Arial"/>
              </a:rPr>
              <a:t>1 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= </a:t>
            </a:r>
            <a:r>
              <a:rPr b="0" lang="en-US" sz="3400" spc="-1" strike="noStrike" u="sng">
                <a:solidFill>
                  <a:srgbClr val="ff66cc"/>
                </a:solidFill>
                <a:uFillTx/>
                <a:latin typeface="Arial"/>
              </a:rPr>
              <a:t>P</a:t>
            </a:r>
            <a:r>
              <a:rPr b="0" lang="en-US" sz="3400" spc="-1" strike="noStrike" u="sng" baseline="-25000">
                <a:solidFill>
                  <a:srgbClr val="ff66cc"/>
                </a:solidFill>
                <a:uFillTx/>
                <a:latin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  T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    T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deal ga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gas that behaves exactly according to KM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Re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gases behave like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ideal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gases under conditions of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igh T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low P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Avogadro’s law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Equal volumes of gases at the same T and P contain equal #’s of gas molecu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STP: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andard T and P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0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  <a:ea typeface="Arial"/>
              </a:rPr>
              <a:t>°C (273 K) and 1 at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olar volume: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volume of 1 mol of a g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ar volume at STP: At STP conditions,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1 mol of a gas is 22.4 L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1 Properties of Gas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exert pressu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o gases have volum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Yes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vemen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onstant, random, straight-lin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ls and coeffici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Coefficients in a balanced chemical reaction tell us how many moles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2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+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</a:t>
            </a:r>
            <a:r>
              <a:rPr b="0" lang="en-US" sz="3400" spc="-1" strike="noStrike">
                <a:solidFill>
                  <a:srgbClr val="ff66cc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2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2 mol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: 1 mol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: 2 mol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What is the volume of 2 mo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What is the volume of 25 mo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es are in 28 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es are in 45 L of a ga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2H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+ O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2H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mols of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 are needed to react with 4.5 mol O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L of H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O are there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.9 Ideal Gases and Molar Volum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t STP conditions: Put it all toge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Cl</a:t>
            </a:r>
            <a:r>
              <a:rPr b="0" lang="en-US" sz="3400" spc="-1" strike="noStrike" baseline="-25000">
                <a:solidFill>
                  <a:srgbClr val="66ffff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+ 2Na </a:t>
            </a:r>
            <a:r>
              <a:rPr b="0" lang="en-US" sz="34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 2NaC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How many L of NaCl are produced from the reaction of 8.5 mol Cl</a:t>
            </a:r>
            <a:r>
              <a:rPr b="0" lang="en-US" sz="3400" spc="-1" strike="noStrike" baseline="-25000">
                <a:solidFill>
                  <a:srgbClr val="ff66cc"/>
                </a:solidFill>
                <a:latin typeface="Arial"/>
                <a:ea typeface="Arial"/>
              </a:rPr>
              <a:t>2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  <a:ea typeface="Arial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4768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ost of the atmosphere’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ma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all of its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weather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re within 10 to 15 km of Earth’s surface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region is called the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troposphere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ases continually mix in the troposphere, leading to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fairly uniform composition of air around the world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ir is a mixtu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f gases!!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j0335112"/>
          <p:cNvPicPr/>
          <p:nvPr/>
        </p:nvPicPr>
        <p:blipFill>
          <a:blip r:embed="rId1"/>
          <a:stretch/>
        </p:blipFill>
        <p:spPr>
          <a:xfrm>
            <a:off x="1752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opospheric Air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ajor componen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Nitrogen (78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Oxygen (21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Minor component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Argon (0.93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3400" spc="-1" strike="noStrike">
                <a:solidFill>
                  <a:srgbClr val="99ff66"/>
                </a:solidFill>
                <a:latin typeface="Arial"/>
              </a:rPr>
              <a:t>Carbon dioxide (0.033%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2 Structure of Atmosphe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Human activ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natural phenomen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such as volcanic eruptions can alter the concentrations of some trace gases and add other substances to the air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s leads to </a:t>
            </a:r>
            <a:r>
              <a:rPr b="0" lang="en-US" sz="3400" spc="-1" strike="noStrike">
                <a:solidFill>
                  <a:srgbClr val="ff66cc"/>
                </a:solidFill>
                <a:latin typeface="Arial"/>
              </a:rPr>
              <a:t>decrease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ir quality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 science, pressure refers to the 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force applied to one unit surface of area.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formula i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285840">
              <a:spcBef>
                <a:spcPts val="85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Pressure = </a:t>
            </a:r>
            <a:r>
              <a:rPr b="0" lang="en-US" sz="3400" spc="-1" strike="noStrike" u="sng">
                <a:solidFill>
                  <a:srgbClr val="66ffff"/>
                </a:solidFill>
                <a:uFillTx/>
                <a:latin typeface="Arial"/>
              </a:rPr>
              <a:t>For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ff"/>
                </a:solidFill>
                <a:latin typeface="Arial"/>
              </a:rPr>
              <a:t>            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Are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.3 Pressur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400" y="1552320"/>
            <a:ext cx="8204040" cy="48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850"/>
              </a:spcBef>
              <a:buClr>
                <a:srgbClr val="8381b3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rom the formula above, see that pressure is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direct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roportional to force and </a:t>
            </a: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inversel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roportional to are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9:18:05Z</dcterms:created>
  <dc:creator>Great Valley High School</dc:creator>
  <dc:description/>
  <dc:language>en-US</dc:language>
  <cp:lastModifiedBy>Great Valley High School</cp:lastModifiedBy>
  <dcterms:modified xsi:type="dcterms:W3CDTF">2008-05-16T12:43:06Z</dcterms:modified>
  <cp:revision>34</cp:revision>
  <dc:subject/>
  <dc:title>Slide 1</dc:title>
</cp:coreProperties>
</file>